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32F-9737-45A6-A4F5-A9CD9892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E61-1671-41DD-BF48-41B3E588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AB8-96F3-49A7-820D-8191A9C3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1D4-483C-4D14-8F0F-711D2487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374-552B-471A-9AE8-350FEE10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D8E-55D7-4B69-8B0A-4B1DA588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E35-4D88-4168-A41A-AC7241D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6E0-7B60-49D0-99B1-B8E35A31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BAC-22B4-4B25-836D-D95FEE3A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5FE-2A60-42BA-BEB5-BB37E77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031-6F54-4E48-B020-B7F0E5FD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825-06B3-4F8D-B803-BA5A4274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564-E512-4F1B-A98A-E53CD64B972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0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kill Composition of Migration and the Generosity of the Welfare Stat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Free vs.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4880" y="3429000"/>
            <a:ext cx="74487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新細明體"/>
              </a:rPr>
              <a:t>Holon Institution of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新細明體"/>
              </a:rPr>
              <a:t>Decemb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新細明體"/>
              </a:rPr>
              <a:t>Alon Cohen and Assaf Raz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ree migration means that all individuals c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freely move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into the host country, to reside, work and retire there (European Un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quilibrium is supply-side determined (host country’s considerations are less effecti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e different attitude of immigrants with various skill level towards redistribution implies negative selection in generous welfar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597-23A3-40A9-B84A-0373B6BDC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71640" y="1700280"/>
            <a:ext cx="7041960" cy="4152240"/>
            <a:chOff x="971640" y="1700280"/>
            <a:chExt cx="7041960" cy="4152240"/>
          </a:xfrm>
        </p:grpSpPr>
        <p:grpSp>
          <p:nvGrpSpPr>
            <p:cNvPr id="64" name=""/>
            <p:cNvGrpSpPr/>
            <p:nvPr/>
          </p:nvGrpSpPr>
          <p:grpSpPr>
            <a:xfrm>
              <a:off x="971640" y="1700280"/>
              <a:ext cx="7041960" cy="4152240"/>
              <a:chOff x="971640" y="1700280"/>
              <a:chExt cx="7041960" cy="4152240"/>
            </a:xfrm>
          </p:grpSpPr>
          <p:sp>
            <p:nvSpPr>
              <p:cNvPr id="65" name=""/>
              <p:cNvSpPr/>
              <p:nvPr/>
            </p:nvSpPr>
            <p:spPr>
              <a:xfrm>
                <a:off x="1906560" y="1844640"/>
                <a:ext cx="0" cy="374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6560" y="5587920"/>
                <a:ext cx="468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82920" y="2347920"/>
                <a:ext cx="3671640" cy="2305080"/>
              </a:xfrm>
              <a:custGeom>
                <a:avLst/>
                <a:gdLst/>
                <a:ahLst/>
                <a:rect l="l" t="t" r="r" b="b"/>
                <a:pathLst>
                  <a:path w="2313" h="1452">
                    <a:moveTo>
                      <a:pt x="0" y="0"/>
                    </a:moveTo>
                    <a:cubicBezTo>
                      <a:pt x="11" y="355"/>
                      <a:pt x="22" y="711"/>
                      <a:pt x="408" y="953"/>
                    </a:cubicBezTo>
                    <a:cubicBezTo>
                      <a:pt x="794" y="1195"/>
                      <a:pt x="1553" y="1323"/>
                      <a:pt x="2313" y="14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843280" y="2203560"/>
                <a:ext cx="280836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771640" y="1844640"/>
                <a:ext cx="266400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419640" y="2492280"/>
                <a:ext cx="2519280" cy="25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03640" y="2924280"/>
                <a:ext cx="4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5046480" y="227664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71640" y="170028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27640" y="177156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722920" y="1916280"/>
                <a:ext cx="223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/low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(normalize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18320" y="5446800"/>
                <a:ext cx="1295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, m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651640" y="29242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59F-9276-4257-B1D1-BBC9A00709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Under “policy-controlled” regime the demand-side effect is domi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us we expect to observe a positive correlation  between welfare state benefits and the skill composition of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6DB-32BE-4C88-8759-BE5E3F762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olicy-controlled migration is exercised between any pair of countries that are not obligated to free migration between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Quality-selection”: the host country screens out less desirable immigrants, and favor immigrants with high skills and education (Australia, Canada, New Zealand and some EU countri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4EF-50C7-4B9A-8A7A-CED2AA75F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"policy-controlled" regime can be construed as simple quotas for differently skilled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quilibrium is demand-side determined (the considerations of the migrants are less effecti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e opposite fiscal effects of differently skilled immigrants implies that countries with generous welfare state are more prone to positively select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5BC-14D6-4A2F-BD29-D86ED012D7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87280" y="1557360"/>
            <a:ext cx="6826320" cy="4295160"/>
            <a:chOff x="1187280" y="1557360"/>
            <a:chExt cx="6826320" cy="4295160"/>
          </a:xfrm>
        </p:grpSpPr>
        <p:sp>
          <p:nvSpPr>
            <p:cNvPr id="87" name=""/>
            <p:cNvSpPr/>
            <p:nvPr/>
          </p:nvSpPr>
          <p:spPr>
            <a:xfrm>
              <a:off x="1906560" y="2060640"/>
              <a:ext cx="0" cy="37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6560" y="5803920"/>
              <a:ext cx="46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43280" y="2131560"/>
              <a:ext cx="352908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18320" y="5446800"/>
              <a:ext cx="129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,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280" y="19112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/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27640" y="206064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075280" y="2131920"/>
              <a:ext cx="0" cy="360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780000" y="213156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70480" y="270828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780000" y="2347920"/>
              <a:ext cx="574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9600" y="2506680"/>
              <a:ext cx="107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1840" y="2198520"/>
              <a:ext cx="11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1280" y="1557360"/>
              <a:ext cx="251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/low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normaliz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CF3-7D35-42F4-99DC-5C09FBE84F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57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Research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use stylized model to establish our intuition with respect to the supply-side and demand-side effects of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then test the hypotheses empirically, by decomposing immigration data into two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urce-host pairs with free mig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urce-host pairs with policy controls over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A4C-53AC-43EB-BB3F-73E0A8B627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1341360"/>
            <a:ext cx="324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Production:</a:t>
            </a: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1049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abor: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1225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overnment: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3501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dividuals: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2625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924360" y="1403280"/>
                <a:ext cx="4608360" cy="418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σμ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</m:e>
                            </m:d>
                            <m:r>
                              <m:t xml:space="preserve">μ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τY</m:t>
                        </m:r>
                      </m:e>
                      <m:e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854-3555-4190-9AAD-76D7E058C2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6202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6. Indirect utility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7. Median voter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00000" y="1916280"/>
                <a:ext cx="648036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sup>
                        </m:sSup>
                      </m:e>
                      <m:e/>
                      <m:e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num>
                          <m:den>
                            <m:r>
                              <m:t xml:space="preserve">dσ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σ</m:t>
                                        </m:r>
                                        <m:r>
                                          <m:t xml:space="preserve">;</m:t>
                                        </m:r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σ</m:t>
                                    </m:r>
                                  </m:den>
                                </m:f>
                              </m:e>
                            </m:groupChr>
                          </m:e>
                          <m:lim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σ</m:t>
                                        </m:r>
                                        <m:r>
                                          <m:t xml:space="preserve">;</m:t>
                                        </m:r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σ</m:t>
                                    </m:r>
                                  </m:den>
                                </m:f>
                              </m:e>
                            </m:groupChr>
                          </m:e>
                          <m:lim>
                            <m:r>
                              <m:t xml:space="preserve">+</m:t>
                            </m:r>
                            <m:r>
                              <m:t xml:space="preserve">−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F87-5224-46D2-902E-465B28CA9D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8002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 unskilled median voter opts for maximum level of high-skilled immigration,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u</a:t>
            </a:r>
            <a:r>
              <a:rPr b="1" lang="el-GR" sz="2800" spc="-1" strike="noStrike">
                <a:solidFill>
                  <a:srgbClr val="000000"/>
                </a:solidFill>
                <a:latin typeface="Garamond"/>
              </a:rPr>
              <a:t>=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skilled median voter opts for lower level of high-skilled immigration,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&lt;</a:t>
            </a:r>
            <a:r>
              <a:rPr b="1" lang="el-GR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reason is wages complementarities versus wage substitut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FD9-BF8A-467F-9FC3-AEA056587D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6920" y="1571760"/>
          <a:ext cx="7705800" cy="3352680"/>
        </p:xfrm>
        <a:graphic>
          <a:graphicData uri="http://schemas.openxmlformats.org/drawingml/2006/table">
            <a:tbl>
              <a:tblPr/>
              <a:tblGrid>
                <a:gridCol w="1927440"/>
                <a:gridCol w="1925640"/>
                <a:gridCol w="1927080"/>
                <a:gridCol w="19256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urce 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st  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nefits pc (hos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grants' skill com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,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,9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S.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,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S.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,9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CF4-F9E6-4A46-8BCC-5F57954D9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ssume that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rginally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early, </a:t>
            </a:r>
            <a:r>
              <a:rPr b="1" i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Garamond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is unchanged and </a:t>
            </a:r>
            <a:r>
              <a:rPr b="1" i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reason: when tax rate increases, the fiscal burden on the native skilled is higher; additional skilled immigrants would alleviate this bu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aggregate effect thus is (weakly) posi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58E-77C9-4055-A7AF-A17411DC5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07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potential migrant compares her prospect utility in the host country,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to the reservation utility in her source country, denoted by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ssume immigrants flow is too small to bear a substantial effect on labor in the host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dividuals in the source country, in each skill level, are a continuum with respect to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608800" y="2276640"/>
                <a:ext cx="33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559560" y="433692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Free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D95-844B-4F72-BC1A-68EF5DEF5D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f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equilibr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se equations implicitly determine the equilibrium quantities of immigrants,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tal derivative of both equations with respect to the tax rate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yields negative correlation with </a:t>
            </a:r>
            <a:r>
              <a:rPr b="1" i="1" lang="el-GR" sz="20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19640" y="1441440"/>
                <a:ext cx="3384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σμ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μ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Free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9FD-6EEF-4C4D-9B6F-E5D20D24E0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Free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main effect of tax increase is more benefits on the one hand, and less disposable income on the othe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equently, those who are net contributors of the welfare state (skilled) loose; those who are net earners of the welfare state (unskilled) bene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aggregate effect thus 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2C4-5BF9-4DCC-B616-6C86550CC0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5f71f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use the international immigration stocks dataset, by 2000 (Docquier and Marfouk (2006)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ost countries: Austria, Belgium, Denmark, Finland, France, Germany, Greece, Ireland, Italy, Netherlands, Portugal, Spain, Sweden, U.K., Norway and Switzer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urce countries: all host countries and U.S., Canada, Japan, Australia, New Zealand, Israel, Taiwan, Hong Kong, Korea and Singap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798-67EB-4743-BB83-BBA1171649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5f71f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nts are at working age (25+), foreign born, subdivided into three classes of schooling years: 0-8, 9-12 and 13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ata for welfare-state benefits per capita is based on OECD's Analytical Datab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cial benefits encompass all kinds of social public expenditures, in cash or in kind, PPP-converted to 1990 U.S. dollars, averaged over 1974 and 19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FAE-DB63-434B-920A-C91C1B75B6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dentification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decompose the data into two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roup A contains EU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EU mig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roup B contains Non-EU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EU migration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decomposition is vital to the identification strate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79A-DC92-4DD8-9B4C-AEABEE399B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dentification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tion within group A is fre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assumption identifies the supply-side effect (considerations of potential immigrants).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tion within group B is controlled by policies of the host count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assumption identifies the demand-side effect (considerations of the host countr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B22-A250-43E3-9A87-9969BF3F2A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dentification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decomposition into groups A and B is exogenous to the skill composition of migr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categorizing, in fact, reflects the history of the EU establishment, since the post-WWII treaties, which were not signed with regard to the skill composition of their future immigr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ence, the difference between the estimated parameters in groups A and B can be identifie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63E-D721-4DB5-B725-1A9B9617CC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11280" y="1413000"/>
                <a:ext cx="763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Δ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ε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284280"/>
            <a:ext cx="80024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y variable whose impact over immigration is skill invariant (fixed effect), is canceled ou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y time independent omitted variables, or past explanatory variables, are also neutr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74680"/>
            <a:ext cx="8064720" cy="706320"/>
          </a:xfrm>
          <a:prstGeom prst="rect">
            <a:avLst/>
          </a:prstGeom>
          <a:solidFill>
            <a:srgbClr val="bc92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conometric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C2B-E711-4007-829B-4484FE49F0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4200" y="274680"/>
            <a:ext cx="770544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Research question: what is the effect of welfare-state benefits on the skill composition of immigr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negative effect may exert a fiscal burden upon the host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positive effect can induce a fiscal relief upon the host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AD1-84BE-4DFB-9F50-CD89F5656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 further treat possible endogeneity, we use lagged values of the welfare-state benefits and robustness test using instrument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IV is the legal origin of the host count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t reflects some cultural trait that is associated with welfare ideology on one 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t is unlikely to be otherwise correlated with immigration, on the other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39640" y="274680"/>
            <a:ext cx="8064720" cy="706320"/>
          </a:xfrm>
          <a:prstGeom prst="rect">
            <a:avLst/>
          </a:prstGeom>
          <a:solidFill>
            <a:srgbClr val="bc92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conometric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9CB-A39C-434F-A755-DE0455DC16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70400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8C4-B6C0-48C5-8ED5-1ECAB690CB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777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1280" y="260280"/>
            <a:ext cx="7921440" cy="70668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05F-1D1E-4F26-BC09-53D3829A6B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scal burden might reduce the generosity of  welfare state benefits (“race to the bottom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scal relief can help sustaining extensive welfare state policy (for instance, in PAYG pens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ence the effect of welfare on the skill composition of immigrants pertains to the viability of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E6A-1CAE-4301-8078-431ABBC0A2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c3dbd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irical evidence for intra-U.S. migration is inconclus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***, ***, 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alker (1994); Levine and Zimmerman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B68-345F-45CC-8683-549C919B6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c3dbd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ternational migration studies are also mi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dersen et al. (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ridy (2006), Leblang et al. (2007) and Warin and Svaton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 Giorgi and Pellizzari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ocquier et al.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08B-9D45-4F39-A673-BE00D1EB87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b9c0e5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n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possible novel explanation to these mixed results is an identifica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e effect of welfare on the skill composition of immigrants should be separated into two effe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upply-side”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demand-side”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17B-790A-432A-B6E6-BFEE84338C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b9c0e5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n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upply of migrants is generated by personal considerations of potential 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mand to migrants is generated by political considerations of the host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tion supply and demand respond in opposite direction to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BE2-7EF2-4D1A-BD27-6986BA3ED5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Under “free migration” regime the supply-side effect is domi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us we expect to observe a negative correlation  between welfare state benefits and the skill composition of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CC9-3812-477D-B45A-2253E6A0CA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46:03Z</dcterms:created>
  <dc:creator>ediths</dc:creator>
  <dc:description/>
  <dc:language>en-US</dc:language>
  <cp:lastModifiedBy>alonc</cp:lastModifiedBy>
  <dcterms:modified xsi:type="dcterms:W3CDTF">2008-11-22T19:13:32Z</dcterms:modified>
  <cp:revision>724</cp:revision>
  <dc:subject/>
  <dc:title>Slide 1</dc:title>
</cp:coreProperties>
</file>