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F93-BFC5-4965-980F-B8A600F8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093-DEC4-4084-8871-3408F88F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F62-B2BB-48C3-AECF-9D83B404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320-E07F-4557-994A-C4C01B70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459-82BE-40F6-AB02-2E716D53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8A0-FD67-4CFB-9BDD-02D62D34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B83-321E-427D-94E8-BBE2EF9E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E66-A98C-49E4-8636-4BB28C29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9D7-6549-44D2-A5F9-0CE922F2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588-E458-42DC-A635-7498BAA4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5F94-9BB7-468F-9BC7-99AE043F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3A9-DCDD-4807-BEE4-11416468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1B0E-3910-408C-96A8-D74D3EE9FDBF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04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Skill Composition of Migration and the Generosity of the Welfare Stat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Free vs. Policy-Controlled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94880" y="3429000"/>
            <a:ext cx="74487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新細明體"/>
              </a:rPr>
              <a:t>Kiryat Ono Colle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新細明體"/>
              </a:rPr>
              <a:t>Decemb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新細明體"/>
              </a:rPr>
              <a:t>Alon Cohen and Assaf Raz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Hypothesis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ree migration means that all individuals c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freely move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into the host country, to reside, work and retire there (European Unio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quilibrium is supply-side determined (host country’s considerations are less effectiv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The different attitude of immigrants with various skill level towards redistribution implies negative selection in generous welfare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27B-813C-4D59-A834-D12B9501AE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Hypothesis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71640" y="1700280"/>
            <a:ext cx="7041960" cy="4152240"/>
            <a:chOff x="971640" y="1700280"/>
            <a:chExt cx="7041960" cy="4152240"/>
          </a:xfrm>
        </p:grpSpPr>
        <p:grpSp>
          <p:nvGrpSpPr>
            <p:cNvPr id="64" name=""/>
            <p:cNvGrpSpPr/>
            <p:nvPr/>
          </p:nvGrpSpPr>
          <p:grpSpPr>
            <a:xfrm>
              <a:off x="971640" y="1700280"/>
              <a:ext cx="7041960" cy="4152240"/>
              <a:chOff x="971640" y="1700280"/>
              <a:chExt cx="7041960" cy="4152240"/>
            </a:xfrm>
          </p:grpSpPr>
          <p:sp>
            <p:nvSpPr>
              <p:cNvPr id="65" name=""/>
              <p:cNvSpPr/>
              <p:nvPr/>
            </p:nvSpPr>
            <p:spPr>
              <a:xfrm>
                <a:off x="1906560" y="1844640"/>
                <a:ext cx="0" cy="374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906560" y="5587920"/>
                <a:ext cx="468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482920" y="2347920"/>
                <a:ext cx="3671640" cy="2305080"/>
              </a:xfrm>
              <a:custGeom>
                <a:avLst/>
                <a:gdLst/>
                <a:ahLst/>
                <a:rect l="l" t="t" r="r" b="b"/>
                <a:pathLst>
                  <a:path w="2313" h="1452">
                    <a:moveTo>
                      <a:pt x="0" y="0"/>
                    </a:moveTo>
                    <a:cubicBezTo>
                      <a:pt x="11" y="355"/>
                      <a:pt x="22" y="711"/>
                      <a:pt x="408" y="953"/>
                    </a:cubicBezTo>
                    <a:cubicBezTo>
                      <a:pt x="794" y="1195"/>
                      <a:pt x="1553" y="1323"/>
                      <a:pt x="2313" y="14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843280" y="2203560"/>
                <a:ext cx="2808360" cy="28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771640" y="1844640"/>
                <a:ext cx="2664000" cy="26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419640" y="2492280"/>
                <a:ext cx="2519280" cy="251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03640" y="2924280"/>
                <a:ext cx="43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5046480" y="2276640"/>
                <a:ext cx="50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71640" y="1700280"/>
                <a:ext cx="71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/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427640" y="1771560"/>
                <a:ext cx="647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722920" y="1916280"/>
                <a:ext cx="2232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high/low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(normalized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718320" y="5446800"/>
                <a:ext cx="1295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high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, m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651640" y="292428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A96-182C-489F-BA73-6AF3201361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Hypothesis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Under “policy-controlled” regime the demand-side effect is domi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Thus we expect to observe a positive correlation  between welfare state benefits and the skill composition of immigr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79FE-129F-4FF8-9FEF-59C9661D90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Hypothesis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olicy-controlled migration is exercised between any pair of countries that are not obligated to free migration between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Quality-selection”: the host country screens out less desirable immigrants, and favor immigrants with high skills and education (Australia, Canada, New Zealand and some EU countri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0D1-3657-48D9-92A9-5DCE28100C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Hypothesis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"policy-controlled" regime can be construed as simple quotas for differently skilled immigr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quilibrium is demand-side determined (the considerations of the migrants are less effectiv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The opposite fiscal effects of differently skilled immigrants implies that countries with generous welfare state are more prone to positively select immigr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516-0C16-499A-A459-F6105A893B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Hypothesis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187280" y="1557360"/>
            <a:ext cx="6826320" cy="4295160"/>
            <a:chOff x="1187280" y="1557360"/>
            <a:chExt cx="6826320" cy="4295160"/>
          </a:xfrm>
        </p:grpSpPr>
        <p:sp>
          <p:nvSpPr>
            <p:cNvPr id="87" name=""/>
            <p:cNvSpPr/>
            <p:nvPr/>
          </p:nvSpPr>
          <p:spPr>
            <a:xfrm>
              <a:off x="1906560" y="2060640"/>
              <a:ext cx="0" cy="37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6560" y="5803920"/>
              <a:ext cx="468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43280" y="2131560"/>
              <a:ext cx="352908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18320" y="5446800"/>
              <a:ext cx="129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igh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, 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7280" y="19112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/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427640" y="2060640"/>
              <a:ext cx="0" cy="36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075280" y="2131920"/>
              <a:ext cx="0" cy="360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780000" y="213156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70480" y="2708280"/>
              <a:ext cx="576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780000" y="2347920"/>
              <a:ext cx="574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89600" y="2506680"/>
              <a:ext cx="107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01840" y="2198520"/>
              <a:ext cx="1152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51280" y="1557360"/>
              <a:ext cx="251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igh/low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normaliz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AC9-CB6E-4E51-BF1F-21826A40FE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d4a57e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Research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use stylized model to establish our intuition with respect to the supply-side and demand-side effects of the welfar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then test the hypotheses empirically, by decomposing immigration data into two gro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ource-host pairs with free migr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ource-host pairs with policy controls over im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E51-D8ED-44CA-BE7D-F0F5D9157E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1341360"/>
            <a:ext cx="324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Production:</a:t>
            </a:r>
            <a:r>
              <a:rPr b="1" i="1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100000"/>
              </a:lnSpc>
              <a:spcBef>
                <a:spcPts val="1049"/>
              </a:spcBef>
              <a:spcAft>
                <a:spcPts val="2100"/>
              </a:spcAft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abor: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100000"/>
              </a:lnSpc>
              <a:spcBef>
                <a:spcPts val="1225"/>
              </a:spcBef>
              <a:spcAft>
                <a:spcPts val="2100"/>
              </a:spcAft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overnment: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100000"/>
              </a:lnSpc>
              <a:spcBef>
                <a:spcPts val="3501"/>
              </a:spcBef>
              <a:spcAft>
                <a:spcPts val="2100"/>
              </a:spcAft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dividuals: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100000"/>
              </a:lnSpc>
              <a:spcBef>
                <a:spcPts val="2625"/>
              </a:spcBef>
              <a:spcAft>
                <a:spcPts val="2100"/>
              </a:spcAft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on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924360" y="1403280"/>
                <a:ext cx="4608360" cy="418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p>
                        </m:sSubSup>
                      </m:e>
                      <m:e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σμ</m:t>
                            </m:r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σ</m:t>
                                </m:r>
                              </m:e>
                            </m:d>
                            <m:r>
                              <m:t xml:space="preserve">μ</m:t>
                            </m:r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e>
                        </m:d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τY</m:t>
                        </m:r>
                      </m:e>
                      <m:e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ε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ε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sup>
                        </m:sSubSup>
                      </m:e>
                      <m:e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755640" y="274680"/>
            <a:ext cx="7705800" cy="706320"/>
          </a:xfrm>
          <a:prstGeom prst="rect">
            <a:avLst/>
          </a:prstGeom>
          <a:solidFill>
            <a:srgbClr val="a8d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ory: Policy-Controlled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1DF-A577-491C-9D61-CF59AE173C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6202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6. Indirect utility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7. Median voter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274680"/>
            <a:ext cx="7705800" cy="706320"/>
          </a:xfrm>
          <a:prstGeom prst="rect">
            <a:avLst/>
          </a:prstGeom>
          <a:solidFill>
            <a:srgbClr val="a8d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ory: Policy-Controlled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00000" y="1916280"/>
                <a:ext cx="6480360" cy="26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;</m:t>
                            </m:r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;</m:t>
                            </m:r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;</m:t>
                            </m:r>
                            <m:r>
                              <m:t xml:space="preserve">τ</m:t>
                            </m:r>
                          </m:e>
                        </m:d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;</m:t>
                            </m:r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τ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ε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sup>
                        </m:sSup>
                      </m:e>
                      <m:e/>
                      <m:e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τ</m:t>
                                </m:r>
                              </m:e>
                            </m:d>
                          </m:num>
                          <m:den>
                            <m:r>
                              <m:t xml:space="preserve">dσ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σ</m:t>
                                        </m:r>
                                        <m:r>
                                          <m:t xml:space="preserve">;</m:t>
                                        </m:r>
                                        <m:r>
                                          <m:t xml:space="preserve">τ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dσ</m:t>
                                    </m:r>
                                  </m:den>
                                </m:f>
                              </m:e>
                            </m:groupChr>
                          </m:e>
                          <m:lim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;</m:t>
                            </m:r>
                            <m:r>
                              <m:t xml:space="preserve">τ</m:t>
                            </m:r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σ</m:t>
                                        </m:r>
                                        <m:r>
                                          <m:t xml:space="preserve">;</m:t>
                                        </m:r>
                                        <m:r>
                                          <m:t xml:space="preserve">τ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dσ</m:t>
                                    </m:r>
                                  </m:den>
                                </m:f>
                              </m:e>
                            </m:groupChr>
                          </m:e>
                          <m:lim>
                            <m:r>
                              <m:t xml:space="preserve">+</m:t>
                            </m:r>
                            <m:r>
                              <m:t xml:space="preserve">−</m:t>
                            </m:r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C5C-B19C-48E4-AEA9-772683FC41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8002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n unskilled median voter opts for maximum level of high-skilled immigration, </a:t>
            </a:r>
            <a:r>
              <a:rPr b="1" lang="el-GR" sz="2400" spc="-1" strike="noStrike">
                <a:solidFill>
                  <a:srgbClr val="000000"/>
                </a:solidFill>
                <a:latin typeface="Garamond"/>
              </a:rPr>
              <a:t>σ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</a:rPr>
              <a:t>u</a:t>
            </a:r>
            <a:r>
              <a:rPr b="1" lang="el-GR" sz="2800" spc="-1" strike="noStrike">
                <a:solidFill>
                  <a:srgbClr val="000000"/>
                </a:solidFill>
                <a:latin typeface="Garamond"/>
              </a:rPr>
              <a:t>=1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 skilled median voter opts for lower level of high-skilled immigration, </a:t>
            </a:r>
            <a:r>
              <a:rPr b="1" lang="el-GR" sz="2400" spc="-1" strike="noStrike">
                <a:solidFill>
                  <a:srgbClr val="000000"/>
                </a:solidFill>
                <a:latin typeface="Garamond"/>
              </a:rPr>
              <a:t>σ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&lt;</a:t>
            </a:r>
            <a:r>
              <a:rPr b="1" lang="el-GR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reason is wages complementarities versus wage substitutabil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274680"/>
            <a:ext cx="7705800" cy="706320"/>
          </a:xfrm>
          <a:prstGeom prst="rect">
            <a:avLst/>
          </a:prstGeom>
          <a:solidFill>
            <a:srgbClr val="a8d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ory: Policy-Controlled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57AB-02FC-4A93-9D37-59EEA41BBC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26920" y="1571760"/>
          <a:ext cx="7705800" cy="3352680"/>
        </p:xfrm>
        <a:graphic>
          <a:graphicData uri="http://schemas.openxmlformats.org/drawingml/2006/table">
            <a:tbl>
              <a:tblPr/>
              <a:tblGrid>
                <a:gridCol w="1927440"/>
                <a:gridCol w="1925640"/>
                <a:gridCol w="1927080"/>
                <a:gridCol w="19256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ource 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3db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st  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3db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nefits pc (hos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3db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igrants' skill com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3dbd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t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,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t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.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,9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3dbd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.S.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,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bd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.S.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.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,9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755640" y="274680"/>
            <a:ext cx="7705800" cy="706320"/>
          </a:xfrm>
          <a:prstGeom prst="rect">
            <a:avLst/>
          </a:prstGeom>
          <a:solidFill>
            <a:srgbClr val="dec0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22D-BD5D-4DB1-A4EC-19B36BA08B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8002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ssume that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rginally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early, </a:t>
            </a:r>
            <a:r>
              <a:rPr b="1" i="1" lang="el-GR" sz="2400" spc="-1" strike="noStrike">
                <a:solidFill>
                  <a:srgbClr val="000000"/>
                </a:solidFill>
                <a:latin typeface="Garamond"/>
              </a:rPr>
              <a:t>σ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Garamond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is unchanged and </a:t>
            </a:r>
            <a:r>
              <a:rPr b="1" i="1" lang="el-GR" sz="2400" spc="-1" strike="noStrike">
                <a:solidFill>
                  <a:srgbClr val="000000"/>
                </a:solidFill>
                <a:latin typeface="Garamond"/>
              </a:rPr>
              <a:t>σ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reason: when tax rate increases, the fiscal burden on the native skilled is higher; additional skilled immigrants would alleviate this bur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aggregate effect thus is (weakly) posit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74680"/>
            <a:ext cx="7705800" cy="706320"/>
          </a:xfrm>
          <a:prstGeom prst="rect">
            <a:avLst/>
          </a:prstGeom>
          <a:solidFill>
            <a:srgbClr val="a8d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ory: Policy-Controlled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0DC-20D1-4DD6-BDD3-BDDDF5273F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07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 potential migrant compares her prospect utility in the host country,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  <a:ea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to the reservation utility in her source country, denoted by 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ssume immigrants flow is too small to bear a substantial effect on labor in the host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dividuals in the source country, in each skill level, are a continuum with respect to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608800" y="2276640"/>
                <a:ext cx="331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559560" y="433692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755640" y="274680"/>
            <a:ext cx="7705800" cy="706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ory: Free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614-EAE5-4D7D-B783-E80279F025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f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equilibri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se equations implicitly determine the equilibrium quantities of immigrants,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otal derivative of both equations with respect to the tax rate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, yields negative correlation with </a:t>
            </a:r>
            <a:r>
              <a:rPr b="1" i="1" lang="el-GR" sz="2000" spc="-1" strike="noStrike">
                <a:solidFill>
                  <a:srgbClr val="000000"/>
                </a:solidFill>
                <a:latin typeface="Garamond"/>
              </a:rPr>
              <a:t>σ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419640" y="1441440"/>
                <a:ext cx="33843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σμ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μ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55640" y="274680"/>
            <a:ext cx="7705800" cy="706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ory: Free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920-7480-4724-8903-132CF40BFC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ory: Free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main effect of tax increase is more benefits on the one hand, and less disposable income on the other h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onsequently, those who are net contributors of the welfare state (skilled) loose; those who are net earners of the welfare state (unskilled) bene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6FD-9176-4493-BAF0-F419E913D2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5f71f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mpirical Evidence: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use the international immigration stocks dataset, by 2000 (Docquier and Marfouk (2006)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ost countries: Austria, Belgium, Denmark, Finland, France, Germany, Greece, Ireland, Italy, Netherlands, Portugal, Spain, Sweden, U.K., Norway and Switzer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ource countries: all host countries and U.S., Canada, Japan, Australia, New Zealand, Israel, Taiwan, Hong Kong, Korea and Singap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401-FDDB-4F84-9162-2F33E7072B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5f71f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mpirical Evidence: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mmigrants are at working age (25+), foreign born, subdivided into three classes of schooling years: 0-8, 9-12 high 13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ata for welfare-state benefits per capita is based on OECD's Analytical Datab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ocial benefits encompass all kinds of social public expenditures, in cash or in ki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data is PPP-converted to 1990 U.S. dollars, averaged over 1974 and 199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4DD-ECAA-423C-86B9-2293F365C2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d4aa9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dentification 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decompose the data into two group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roup A contains EU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EU mig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roup B contains Non-EU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EU migration.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s decomposition is vital to the identification strate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067-E000-437F-ABAB-4FA0A6D5CA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d4aa9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dentification 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mmigration within group A is fre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s assumption identifies the supply-side effect (considerations of potential immigrants).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mmigration within group B is controlled by policies of the host countr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s assumption identifies the demand-side effect (considerations of the host countr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5FF-48ED-448B-870A-2598AADBAC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d4aa9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dentification 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decomposition into groups A and B is exogenous to the skill composition of migr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s categorizing, in fact, reflects the history of the EU establishment, since the post-WWII treaties, which were not signed with regard to the skill composition of their future immigr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ence, the difference between the estimated parameters in groups A and B can be identifie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5B6-0084-4662-8AC9-B138EA5B97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11280" y="1413000"/>
                <a:ext cx="763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9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90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h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9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90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Δ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9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90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Δ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ε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3284280"/>
            <a:ext cx="800244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ny variable whose impact over immigration is skill invariant (fixed effect), is canceled ou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ny time independent omitted variables are also neutral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74680"/>
            <a:ext cx="8064720" cy="706320"/>
          </a:xfrm>
          <a:prstGeom prst="rect">
            <a:avLst/>
          </a:prstGeom>
          <a:solidFill>
            <a:srgbClr val="bc92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conometric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5DC-4825-449E-9289-FCF9C805BA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4200" y="274680"/>
            <a:ext cx="7705440" cy="706320"/>
          </a:xfrm>
          <a:prstGeom prst="rect">
            <a:avLst/>
          </a:prstGeom>
          <a:solidFill>
            <a:srgbClr val="dec0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Research question: what is the effect of welfare-state benefits on the skill composition of immigr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 negative effect may exert a fiscal burden upon the host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 positive effect can induce a fiscal relief upon the host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85E6-2403-44FA-B6E1-4526104120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o further treat possible endogeneity, we use lagged values of the welfare-state benefits and robustness test using instrumental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IV is the legal origin of the host count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t reflects some cultural trait that is associated with welfare ideology on one h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t is unlikely to be otherwise correlated with immigration, on the other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539640" y="274680"/>
            <a:ext cx="8064720" cy="706320"/>
          </a:xfrm>
          <a:prstGeom prst="rect">
            <a:avLst/>
          </a:prstGeom>
          <a:solidFill>
            <a:srgbClr val="bc929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conometric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717-05C0-47EC-9FC8-BC21B1A33B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7921440" cy="706320"/>
          </a:xfrm>
          <a:prstGeom prst="rect">
            <a:avLst/>
          </a:prstGeom>
          <a:solidFill>
            <a:srgbClr val="dfe2b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mpirical Evidence: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7490160" cy="539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93B-7B64-409D-98BE-3C13C68686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7921440" cy="706320"/>
          </a:xfrm>
          <a:prstGeom prst="rect">
            <a:avLst/>
          </a:prstGeom>
          <a:solidFill>
            <a:srgbClr val="dfe2b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mpirical Evidence: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observe a negative and significant impact of the welfare-state benefits on the skill composition of migrants in group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magnitude of the coefficient is even higher in the IV regressions than the OLS reg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00000" y="3716280"/>
            <a:ext cx="7417080" cy="706320"/>
            <a:chOff x="900000" y="3716280"/>
            <a:chExt cx="7417080" cy="7063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900000" y="3947760"/>
              <a:ext cx="7417080" cy="474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900000" y="3716280"/>
              <a:ext cx="7417080" cy="234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1E0-2298-4C43-A82E-E70C451C90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7921440" cy="706320"/>
          </a:xfrm>
          <a:prstGeom prst="rect">
            <a:avLst/>
          </a:prstGeom>
          <a:solidFill>
            <a:srgbClr val="dfe2b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mpirical Evidence: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effect of welfare is significantly higher in group B (but not significantly different than zero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early, however, the effect of the generosity of the welfare state on the skill composition of migrants is non-negative, as predic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magnitude of the coefficient is even higher in the IV regressions than the OLS regression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00000" y="4583160"/>
            <a:ext cx="7417080" cy="717480"/>
            <a:chOff x="900000" y="4583160"/>
            <a:chExt cx="7417080" cy="71748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900000" y="4827600"/>
              <a:ext cx="7417080" cy="473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900000" y="4583160"/>
              <a:ext cx="7417080" cy="235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E4B-976E-49D9-A128-41380F10B3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7921440" cy="706320"/>
          </a:xfrm>
          <a:prstGeom prst="rect">
            <a:avLst/>
          </a:prstGeom>
          <a:solidFill>
            <a:srgbClr val="dfe2b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mpirical Evidence: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ontrol variables: the effect of low (high) skilled migration stock rate in 1990 is negative (positive) and significant, in group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s could indicate skill dependent networking: more unskilled (skilled) migrants bring about further waves of unskilled (skilled) migr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00000" y="4221000"/>
            <a:ext cx="7417080" cy="1209600"/>
            <a:chOff x="900000" y="4221000"/>
            <a:chExt cx="7417080" cy="120960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900000" y="4221000"/>
              <a:ext cx="7417080" cy="234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900000" y="4451040"/>
              <a:ext cx="7417080" cy="476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900000" y="4954320"/>
              <a:ext cx="7417080" cy="476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F20-3849-472D-A476-92FAF78B45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7921440" cy="706320"/>
          </a:xfrm>
          <a:prstGeom prst="rect">
            <a:avLst/>
          </a:prstGeom>
          <a:solidFill>
            <a:srgbClr val="dfe2b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mpirical Evidence: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group B, however, lower skill composition of immigrants in the past, encourages higher skill composition in the fu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lausibly, having initially (i.e., in 1990) a large stock of unskilled migrants, which poses a fiscal burden on the welfare state, induces its voters to opt for more skilled migrants in order to ease the burde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00000" y="4881600"/>
            <a:ext cx="7417080" cy="707760"/>
            <a:chOff x="900000" y="4881600"/>
            <a:chExt cx="7417080" cy="70776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900000" y="4881600"/>
              <a:ext cx="7417080" cy="234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900000" y="5113080"/>
              <a:ext cx="7417080" cy="476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3CC-02C5-42C7-936F-949A9DD879B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7921440" cy="706320"/>
          </a:xfrm>
          <a:prstGeom prst="rect">
            <a:avLst/>
          </a:prstGeom>
          <a:solidFill>
            <a:srgbClr val="dfe2b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mpirical Evidence: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s explanation is supported in columns 2 and 4, where we account for the quantity of high-low skilled voters ratio, in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host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count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One can see that as this ratio is higher, the skill composition of immigrants is l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early, this outcome is also in line with our model, wherei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σ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σ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900000" y="4638600"/>
            <a:ext cx="7417080" cy="734760"/>
            <a:chOff x="900000" y="4638600"/>
            <a:chExt cx="7417080" cy="734760"/>
          </a:xfrm>
        </p:grpSpPr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900000" y="4870080"/>
              <a:ext cx="7417080" cy="503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900000" y="4638600"/>
              <a:ext cx="7417080" cy="234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EF7-A451-4613-9539-92666350FE0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7921440" cy="706320"/>
          </a:xfrm>
          <a:prstGeom prst="rect">
            <a:avLst/>
          </a:prstGeom>
          <a:solidFill>
            <a:srgbClr val="3aee4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Robustness 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7777080" cy="539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8D2-D0C1-4E2D-AAA5-CBED470E00C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0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dec0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scal burden might reduce the generosity of  welfare state benefits (“race to the bottom”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scal relief can help sustaining extensive welfare state policy (for instance, in PAYG pensio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ence the effect of welfare on the skill composition of immigrants pertains to the viability of the welfar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2B1-45B4-45E1-BF9E-2EFE7092F9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c3dbd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mpirical evidence for intra-U.S. migration is inconclus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***, ***, 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alker (1994); Levine and Zimmerman (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C41-6DBF-42BD-A15F-4E3659FF45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c3dbd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ternational migration studies are also mix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edersen et al. (200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eridy (2006), Leblang et al. (2007) and Warin and Svaton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 Giorgi and Pellizzari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ocquier et al.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BAB-8CE3-4949-9E5B-8FA5DBB606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b9c0e5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on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 possible novel explanation to the mixed result is an identifica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The effect of welfare on the skill composition of immigrants should be separated into two effec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supply-side”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demand-side”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69F-A3FF-4B99-B27A-35828F7AAE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b9c0e5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on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upply of migrants is generated by personal considerations of potential migr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mand to migrants is generated by political considerations of the host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mmigration supply and demand respond in opposite direction to the welfar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106-BD18-496C-A550-4F24B4B852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Hypothesis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Under “free migration” regime the supply-side effect is domi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Thus we expect to observe a negative correlation  between welfare state benefits and the skill composition of immigr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338-2F30-4BD4-9969-FAEE28B9E8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46:03Z</dcterms:created>
  <dc:creator>ediths</dc:creator>
  <dc:description/>
  <dc:language>en-US</dc:language>
  <cp:lastModifiedBy>alonc</cp:lastModifiedBy>
  <dcterms:modified xsi:type="dcterms:W3CDTF">2008-11-21T09:04:02Z</dcterms:modified>
  <cp:revision>715</cp:revision>
  <dc:subject/>
  <dc:title>Slide 1</dc:title>
</cp:coreProperties>
</file>