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177-94D7-4598-A2B7-1635D5DB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BC8-71F8-4E1D-9F3B-7A157322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38C-A844-4D04-A65C-83401846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01A-B95B-475A-BDE5-12B64FA9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FB4-F78F-4528-9A22-AEC57C77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4F5-71D1-4F15-81AF-F73C87C5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7D04-0136-467B-8671-CA039938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397-6762-46CE-B4DA-457A443B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AB77-EFA3-4468-A7CC-31F211CA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60F-1D59-4700-9E48-7184DF26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33F-30DD-41E2-A9D5-00281304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903-41B7-44A2-AE5C-50E33117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CDF9-7008-48CA-8489-23F84B267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128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Composition of Migration and the Generosity of the Welfare Sta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 vs. Policy-Controlled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94880" y="3429000"/>
            <a:ext cx="74487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lon Co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Novembe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ased on: Cohen and Razin (200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orking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e3f16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ree mig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ns that all individuals can move into the host country, reside, work and retire t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litical considerations of the host country are less effec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equilibrium is dominated by the considerations of the potential immigr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uropean Union is an example of such reg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 members, in general, are obligated (by international treaties) to enable free entrance to any individual originated in other EU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der free migration regime, plausibly, the supply-side effect is domin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9E6-4E4F-415D-A0FC-37A67B76A3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e3f16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licy-controlled mig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exercised between any pair of countries that are not obligated to free migration between th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migration quota is one sort of such polic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sort, which becomes increasingly popular, is “quality-selection” migration polic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st country screens out less desirable immigr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migrants with high skills and education are preferred over immigrants with low skills and edu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859-7BA5-42BF-BB61-EDFF7EB026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e3f16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tralia, New Zealand and Canada are known for their quality selection immigration polic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.S. has also adopted rules, since 1990, which favors entrants with academic degrees or special professional skil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rowing number of EU countries, including France, Ireland and the UK, have introduced programs aiming at attracting a qualified labor force (especially in the fields of information, communication and technology) (Docquier and Marfouk, 200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D6D3-1601-47A2-BFD6-B9EB28635D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"policy-controlled" regime can be construed as simple quotas for differently skilled immigrants, determined by the host count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 the considerations of the immigrants are less effe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equilibrium is dominated by the considerations of the host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der policy-controlled migration regime, plausibly, the demand-side effect is dominan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e3f16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F32-3505-4A16-98AF-7C68AD9C78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705800" cy="1066680"/>
          </a:xfrm>
          <a:prstGeom prst="rect">
            <a:avLst/>
          </a:prstGeom>
          <a:solidFill>
            <a:srgbClr val="a8d8f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y: Policy-Controlled Migration Stylize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78280" y="1671480"/>
            <a:ext cx="3527280" cy="563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01640" y="2670120"/>
            <a:ext cx="2952720" cy="1017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270320" y="3860640"/>
            <a:ext cx="1295280" cy="43020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2924280" y="4549680"/>
            <a:ext cx="2448000" cy="1197000"/>
            <a:chOff x="2924280" y="4549680"/>
            <a:chExt cx="2448000" cy="1197000"/>
          </a:xfrm>
        </p:grpSpPr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2924280" y="4549680"/>
              <a:ext cx="2317680" cy="6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5"/>
            <a:stretch/>
          </p:blipFill>
          <p:spPr>
            <a:xfrm>
              <a:off x="2995560" y="5227560"/>
              <a:ext cx="2376720" cy="5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468360" y="1700280"/>
            <a:ext cx="82072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Bu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74E-C5CB-4E67-8CA9-748F60F34E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71640" y="2163600"/>
            <a:ext cx="7056360" cy="1194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rect Utility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n Vo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321000" y="3720960"/>
            <a:ext cx="4203720" cy="716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826560" y="274320"/>
            <a:ext cx="7705800" cy="1066680"/>
          </a:xfrm>
          <a:prstGeom prst="rect">
            <a:avLst/>
          </a:prstGeom>
          <a:solidFill>
            <a:srgbClr val="a8d8f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y: Policy-Controlled Migration Stylize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9DB6-B7B9-4F31-89B7-9E7E499530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1595520"/>
            <a:ext cx="8002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hare of skilled immigrants, σ, has two effects on the indirect uti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an increase in σ increases labor productivity and thereby the level of benefits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, an increase in σ depresses skilled labor wages and raises unskilled labor wa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median voter is unskilled, both effects are positive. Thus, the unskilled median voter is unambiguously for skilled immig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domestic median voter is skilled, however, the two effects are conflic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26560" y="274320"/>
            <a:ext cx="7705800" cy="1066680"/>
          </a:xfrm>
          <a:prstGeom prst="rect">
            <a:avLst/>
          </a:prstGeom>
          <a:solidFill>
            <a:srgbClr val="a8d8f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y: Policy-Controlled Migration Stylize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E5C8-0BA8-4BBF-AEA8-12DCDDC745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1628280"/>
            <a:ext cx="8002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tive sta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median voter is unskilled, then an exogenous increase in the tax rate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does not change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ince it is a corner solu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, however, the median voter is skilled, an exogenous increase in the tax rate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ill increase the migration policy,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ason: when the tax rates increases, the fiscal burden on the skilled is higher; therefore, additional skilled immigrants alleviate this burd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826560" y="274320"/>
            <a:ext cx="7705800" cy="1066680"/>
          </a:xfrm>
          <a:prstGeom prst="rect">
            <a:avLst/>
          </a:prstGeom>
          <a:solidFill>
            <a:srgbClr val="a8d8f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y: Policy-Controlled Migration Stylize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122720" y="1687680"/>
            <a:ext cx="2249640" cy="71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F5E3-4272-481F-BA4C-AEE5777A2A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705800" cy="1066680"/>
          </a:xfrm>
          <a:prstGeom prst="rect">
            <a:avLst/>
          </a:prstGeom>
          <a:solidFill>
            <a:srgbClr val="a8d8f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y: Policy-Controlled Migration Stylize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187280" y="1557360"/>
            <a:ext cx="6826320" cy="4295160"/>
            <a:chOff x="1187280" y="1557360"/>
            <a:chExt cx="6826320" cy="4295160"/>
          </a:xfrm>
        </p:grpSpPr>
        <p:sp>
          <p:nvSpPr>
            <p:cNvPr id="86" name=""/>
            <p:cNvSpPr/>
            <p:nvPr/>
          </p:nvSpPr>
          <p:spPr>
            <a:xfrm>
              <a:off x="1906560" y="2060640"/>
              <a:ext cx="0" cy="37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6560" y="5803920"/>
              <a:ext cx="468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843280" y="2131560"/>
              <a:ext cx="3529080" cy="30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18320" y="5446800"/>
              <a:ext cx="129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high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, m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87280" y="191124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/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427640" y="2060640"/>
              <a:ext cx="0" cy="36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075280" y="2131920"/>
              <a:ext cx="0" cy="360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80000" y="213156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70480" y="2708280"/>
              <a:ext cx="576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780000" y="2347920"/>
              <a:ext cx="574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89600" y="2506680"/>
              <a:ext cx="107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01840" y="2198520"/>
              <a:ext cx="1152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51280" y="1557360"/>
              <a:ext cx="251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high/low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normaliz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D51F-5726-4948-9EE4-15DD0C450A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7848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make two simplifying assump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immigrants flows is too small to affect labor supply, productivity and wa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, individuals in the source country, in each skill level, are a continuum (with respect to any other quality other than labor skills, for instance, migration cos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y: Free Migration Stylize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605-A2CF-4268-9E14-B8D31F17B3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dec0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s work aims to explore the effect of welfare-state benefits on the skill composition of immigr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fare-state benefits are rendered by governments to their citizens, and funded by tax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stance: pension, disability, education, health care, housing aid, unemployment compensation, and other social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minent notion is that immigrants, especially those with low-skills, are attracted to countries with generous welfare-state benefits ("welfare migration").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3318-757C-4EAB-9606-1C8C5DF26F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y: Free Migration Stylize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780000" y="1700280"/>
            <a:ext cx="1800000" cy="893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900080" y="3100320"/>
            <a:ext cx="5551560" cy="615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506760" y="5141880"/>
            <a:ext cx="1224000" cy="720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80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skilled and unskilled mig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write the indirect utility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bove set of equations implicitly determines the equilibrium quantities of immigrants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derivative of both equations with respect to the tax rate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yie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4AB-55A2-4678-A1A9-BA4E4C6DB3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y: Free Migration Stylize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ogenous increase of the tax rate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deters skilled immigrants and attracts unskilled immigr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ason is si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igration has no effect on the markets in the host countries, then only the direct effect of the tax rate exis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benefits on the one hand, and less disposable income on the other h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quently, those who are net contributors of the welfare state (skilled) loose; those who are net earners of the welfare state (unskilled) bene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609-51F1-4045-9B35-0C43D987A5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y: Free Migration Stylize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71640" y="1700280"/>
            <a:ext cx="7041960" cy="4152240"/>
            <a:chOff x="971640" y="1700280"/>
            <a:chExt cx="7041960" cy="4152240"/>
          </a:xfrm>
        </p:grpSpPr>
        <p:grpSp>
          <p:nvGrpSpPr>
            <p:cNvPr id="110" name=""/>
            <p:cNvGrpSpPr/>
            <p:nvPr/>
          </p:nvGrpSpPr>
          <p:grpSpPr>
            <a:xfrm>
              <a:off x="971640" y="1700280"/>
              <a:ext cx="7041960" cy="4152240"/>
              <a:chOff x="971640" y="1700280"/>
              <a:chExt cx="7041960" cy="4152240"/>
            </a:xfrm>
          </p:grpSpPr>
          <p:sp>
            <p:nvSpPr>
              <p:cNvPr id="111" name=""/>
              <p:cNvSpPr/>
              <p:nvPr/>
            </p:nvSpPr>
            <p:spPr>
              <a:xfrm>
                <a:off x="1906560" y="1844640"/>
                <a:ext cx="0" cy="374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06560" y="5587920"/>
                <a:ext cx="468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482920" y="2347920"/>
                <a:ext cx="3671640" cy="2305080"/>
              </a:xfrm>
              <a:custGeom>
                <a:avLst/>
                <a:gdLst/>
                <a:ahLst/>
                <a:rect l="l" t="t" r="r" b="b"/>
                <a:pathLst>
                  <a:path w="2313" h="1452">
                    <a:moveTo>
                      <a:pt x="0" y="0"/>
                    </a:moveTo>
                    <a:cubicBezTo>
                      <a:pt x="11" y="355"/>
                      <a:pt x="22" y="711"/>
                      <a:pt x="408" y="953"/>
                    </a:cubicBezTo>
                    <a:cubicBezTo>
                      <a:pt x="794" y="1195"/>
                      <a:pt x="1553" y="1323"/>
                      <a:pt x="2313" y="14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843280" y="2203560"/>
                <a:ext cx="2808360" cy="28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2771640" y="1844640"/>
                <a:ext cx="2664000" cy="266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419640" y="2492280"/>
                <a:ext cx="2519280" cy="251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003640" y="2924280"/>
                <a:ext cx="433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5046480" y="2276640"/>
                <a:ext cx="502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971640" y="1700280"/>
                <a:ext cx="71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/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427640" y="1771560"/>
                <a:ext cx="647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hig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22920" y="1916280"/>
                <a:ext cx="2232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high/low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(normalized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718320" y="5446800"/>
                <a:ext cx="1295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high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, m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5651640" y="292428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689F-90E2-4C59-A0B1-742E3B95EE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b4e0ea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y: Testable Im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2089080" cy="720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36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in results of the the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ly, theory exhibits opposite effects of the welfare state on the skill composition of immigra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 migration regime embodies the negative supply-side effec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cy-controlled regime embodies the positive demand-side ef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CBC-D302-49AD-AB26-4255A6CA39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d4aa9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irical Evidence: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64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onfront the prediction of the theory with a cross section data of source-host developed country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ecompose the data into two group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A contains only source-host pairs of countries which enable free mobility of labor among th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lso prohibit any kind of discrimination between native born and immigrants, regarding labor market accessibility and welfare-state benefits eligibilit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AF8D-1016-4109-8C68-E0E731EF53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d4aa9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irical Evidence: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are 16 European countries: Austria, Belgium, Denmark, Finland, France, Germany, Greece, Ireland, Italy, Netherlands, Portugal, Spain, Sweden, U.K., Norway and Switzer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B includes only source-host pairs of countries within which the source country residents cannot freely move, work and get benefits in either of the host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st countries are the same 16 countries as in group 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urce countries are 10 developed countries: U.S., Canada, Japan, Australia, New Zealand, Israel, Taiwan, Hong Kong, Korea and Singap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32AF-73AF-4004-8CBA-99A3905439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d4aa9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irical Evidence: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decomposition is vital to the identification strateg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embodies our threefold identification assumption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migration within group A is fr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ssumption identifies the effect of welfare on the considerations of potential immigra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migration within group B is controlled by policies of the host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ssumption identifies the effect of welfare on the considerations of the host countr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1FB9-0E8F-41DB-9888-B5FFA6924A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d4aa9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irical Evidence: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composition into groups A and B is exogenous to the skill composition of immigr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ssumption relies on the fact that this categorizing, in fact, reflects the history of the EU establishment, since the post-WWII trea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safe to assume that these agreements were not signed with regard to the skill composition of their future immigr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ce, the difference between the estimated parameter within group A and group B can also be identifi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885F-1D1A-471E-9E6E-51B1D3F5D05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5f71f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irical Evidence: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use the international immigration dataset introduced by Docquier and Marfouk (200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ontains stocks of immigrants by the year 2000, based on census and register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migrants are at working age (25+), foreign born, subdivided into three classes of education level: low (0-8 schooling years), medium (9-12 schooling years) and high (13+ schooling ye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ck variables are more reliable than flow data, as flow data disregards return migration movements, which may distort the estimated eff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over, endogenous dynamic of equilibrium rates, are better captured by stocks than 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A54-09FC-4294-AA69-94344803EE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5f71f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irical Evidence: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for welfare-state benefits per capita is based on OECD's Analytical Datab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al benefits encompass all kinds of social public expenditures, in cash or in k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ata is PPP-converted to 1990 U.S. doll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use lagged average rates between 1974 and 1990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A8C2-0D65-49E8-86D6-2F9A98885A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dec0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ining welfare migration is of great importance, especially regarding the enlargement of the 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indeed immigrants are drawn by welfare-state benefits, it may induce disproportional waves of immigrants, from the new member states into the old member states of the 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fare migration flood may exert a heavy fiscal burden upon the host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he welfare systems in Western Europe already face collapse threat due to declining fertility rates and aging populatio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AE4-00CA-4158-A971-1DCD9F5F3F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0920" y="274680"/>
            <a:ext cx="8064360" cy="706320"/>
          </a:xfrm>
          <a:prstGeom prst="rect">
            <a:avLst/>
          </a:prstGeom>
          <a:solidFill>
            <a:srgbClr val="bc929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irical Evidence: Econometr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 emigration stock rates, in 2000, are explained by the following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ubtract the low-skilled equation from the high-skilled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408720" cy="2241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98480" y="5229360"/>
            <a:ext cx="7920000" cy="440640"/>
          </a:xfrm>
          <a:prstGeom prst="rect">
            <a:avLst/>
          </a:prstGeom>
          <a:solidFill>
            <a:srgbClr val="c9c5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,h</a:t>
            </a:r>
            <a:r>
              <a:rPr b="0" lang="he-IL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₀+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·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,h</a:t>
            </a:r>
            <a:r>
              <a:rPr b="0" lang="he-IL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·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he-IL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·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,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·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he-IL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,h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,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,h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,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1F96-95DB-4CAB-96F4-958BEAE7F0C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pendent variable, Δ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s a measure for the skill composition of immigr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ce, a positive estimation of a certain coefficient indicates a positive effect on the skill composition measure of the immigrants, and vice 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the skill-differences model eliminates part of the error term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,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variable whose impact over immigration is skill invariant, is canceled o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neutralizes the effect of any omitted variables which are source-host dependent (fixed effec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10920" y="274680"/>
            <a:ext cx="8064360" cy="706320"/>
          </a:xfrm>
          <a:prstGeom prst="rect">
            <a:avLst/>
          </a:prstGeom>
          <a:solidFill>
            <a:srgbClr val="bc929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irical Evidence: Econometr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4C1-4C1F-4343-8DFD-976F510DEEB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ly, including past migration stocks (in 1990) accounts for all time invariant eff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ce any time independent omitted variables are also neutr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urther treat possible endogeneity, we use lagged values of the welfare-state benefits and robustness test using instrument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V is the legal origin of the host count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reflects some cultural trait that is associated with welfare ideology on one h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unlikely to be otherwise correlated with immigration, on the other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0920" y="274680"/>
            <a:ext cx="8064360" cy="706320"/>
          </a:xfrm>
          <a:prstGeom prst="rect">
            <a:avLst/>
          </a:prstGeom>
          <a:solidFill>
            <a:srgbClr val="bc929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irical Evidence: Econometr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A035-3C52-4583-9E63-8B1D3B2A1D6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7921440" cy="706320"/>
          </a:xfrm>
          <a:prstGeom prst="rect">
            <a:avLst/>
          </a:prstGeom>
          <a:solidFill>
            <a:srgbClr val="dfe2b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irical Evidence: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90160" cy="539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047-DF0F-4F62-AB90-C53FD72F659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7921440" cy="706320"/>
          </a:xfrm>
          <a:prstGeom prst="rect">
            <a:avLst/>
          </a:prstGeom>
          <a:solidFill>
            <a:srgbClr val="dfe2b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irical Evidence: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observe a negative and significant impact of the welfare-state benefits on the skill composition of migrants, when estimation is restricted to group A (the free migration regim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gnitude of the coefficient is even higher in the IV regressions than the OLS reg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00000" y="3789360"/>
            <a:ext cx="7417080" cy="706320"/>
            <a:chOff x="900000" y="3789360"/>
            <a:chExt cx="7417080" cy="70632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900000" y="4020840"/>
              <a:ext cx="7417080" cy="474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900000" y="3789360"/>
              <a:ext cx="7417080" cy="234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52C-E954-4FFE-B3B8-65F79A14B65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7921440" cy="706320"/>
          </a:xfrm>
          <a:prstGeom prst="rect">
            <a:avLst/>
          </a:prstGeom>
          <a:solidFill>
            <a:srgbClr val="dfe2b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irical Evidence: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ffect of welfare is significantly higher for group B (but not significantly different than zer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ly, however, the effect of the generosity of the welfare state on the skill composition of migrants is non-negative, as predic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gnitude of the coefficient is even higher in the IV regressions than the OLS regress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900000" y="4292640"/>
            <a:ext cx="7417080" cy="717480"/>
            <a:chOff x="900000" y="4292640"/>
            <a:chExt cx="7417080" cy="71748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900000" y="4537080"/>
              <a:ext cx="7417080" cy="473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900000" y="4292640"/>
              <a:ext cx="7417080" cy="235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63B-2524-489A-8BC0-74166C4658F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7921440" cy="706320"/>
          </a:xfrm>
          <a:prstGeom prst="rect">
            <a:avLst/>
          </a:prstGeom>
          <a:solidFill>
            <a:srgbClr val="dfe2b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irical Evidence: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variables: the effect of low (high) skilled migration stock rate in 1990 on the skill-composition of migration in 2000 is negative (positive) and significant, in the free migration reg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ould indicate skill dependent networ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unskilled (skilled) migrants bring about further waves of unskilled (skilled) migr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00000" y="4221000"/>
            <a:ext cx="7417080" cy="1209600"/>
            <a:chOff x="900000" y="4221000"/>
            <a:chExt cx="7417080" cy="120960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900000" y="4221000"/>
              <a:ext cx="7417080" cy="234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900000" y="4451040"/>
              <a:ext cx="7417080" cy="476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900000" y="4954320"/>
              <a:ext cx="7417080" cy="476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5595-B3A0-4441-974C-ABCE7C8215F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7921440" cy="706320"/>
          </a:xfrm>
          <a:prstGeom prst="rect">
            <a:avLst/>
          </a:prstGeom>
          <a:solidFill>
            <a:srgbClr val="dfe2b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irical Evidence: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policy-controlled migration regime, however, lower skill composition of immigrants in the past, encourages higher skill composition in the fu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usibly, having initially (i.e., in 1990) a large stock of unskilled migrants, which poses a fiscal burden on the welfare state, induces its voters to opt for more skilled migrants in order to ease the burd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00000" y="4233960"/>
            <a:ext cx="7417080" cy="707760"/>
            <a:chOff x="900000" y="4233960"/>
            <a:chExt cx="7417080" cy="70776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900000" y="4233960"/>
              <a:ext cx="7417080" cy="234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900000" y="4465440"/>
              <a:ext cx="7417080" cy="476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9D1-0CC8-4ACB-9DB1-05DF9449B58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7921440" cy="706320"/>
          </a:xfrm>
          <a:prstGeom prst="rect">
            <a:avLst/>
          </a:prstGeom>
          <a:solidFill>
            <a:srgbClr val="dfe2b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irical Evidence: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explanation is supported in columns 2 and 4, where we account for the quantity of high-low skilled voters ratio, in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see that as this ratio is higher, the skill composition of immigrants is lo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ly, this outcome is also in line with our model, wherein σ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σ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00000" y="4148280"/>
            <a:ext cx="7417080" cy="734760"/>
            <a:chOff x="900000" y="4148280"/>
            <a:chExt cx="7417080" cy="73476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900000" y="4379760"/>
              <a:ext cx="7417080" cy="503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900000" y="4148280"/>
              <a:ext cx="7417080" cy="234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61C6-F541-409B-BAD3-7A140622EE7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7921440" cy="706320"/>
          </a:xfrm>
          <a:prstGeom prst="rect">
            <a:avLst/>
          </a:prstGeom>
          <a:solidFill>
            <a:srgbClr val="3aee4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irical Evidence: Robus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777080" cy="539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0DB-9FB8-4409-8D7C-0784EDC7E4B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dec0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irical evidence, addressing migration within the U.S., is inconclus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support the welfare migration notion: Southwick (1981), Gramlich and Laren (1984), Blank (1988), Borjas (1999), Gelbach (2000), McKinnish (2005,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s find no evidence for that: Walker (1994), Levine and Zimmerman (199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8C6D-6AE3-473B-A4E5-5D898A21FA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dec0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 migration studies are also mix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dersen et al. (2004): tax revenue to GDP ratio is negatively correlated with migration 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ir analysis relates to immigration into 27 OECD countries from 129 countries, during 1990-20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the other hand, Peridy (2006), Leblang et al. (2007) and Warin and Svaton (2008) find positive effect of welfare-state benefits on immigration into OECD countries from various countri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9210-B603-4CF3-8ED0-98F027BFC6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dec0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Giorgi and Pellizzari (2006) examined the immigration into the EU from outside the E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find that immigrants are attracted to welfare-state benefits, with no significant difference between high skilled and low skilled immigr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quier et al. (2006) explored migration into OECD countries from 184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find that low-skilled migrants are motivated by welfare benefits more than high-skilled migr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ndicates that even though the volume of immigrants increases with the generosity of the welfare state, their skill composition de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CFF2-FE25-4B1E-99B7-64B1E931F2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dec0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ssible explanation for some of these mixed results is an identification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ative correlation between migrants flow and welfare can be attributed to reversed caus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immigration waves may lead to shrinkage of the welfare-state, to alleviate fiscal pressures (“race to the bottom”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other identification problem could arise by mixing both aspects of the welfare effect on immigration: “supply-side” effect and “demand-side” ef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ork addresses the latter explanation, which was yet to be examined in previous lit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B3A-B6AB-4C6E-8E38-2DCD13BD28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e3f16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migration data reflects equilibrium: it combines both the demand for immigrants and the supply of immigr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m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mmigrants is determined by the considerations of the host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ly these considerations are not necessarily homogenous across the interests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stance, low skilled are in favor of admitting more high skilled immigrants; high skilled would rather having less immigration of their pe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ould be due to complementarities versus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B770-AAB7-4611-A268-A0D54960CA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705800" cy="706320"/>
          </a:xfrm>
          <a:prstGeom prst="rect">
            <a:avLst/>
          </a:prstGeom>
          <a:solidFill>
            <a:srgbClr val="e3f16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upp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immigrants is dictated by the considerations of the immigrants themselves (assuming no exit restrictions in the origin countr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ge opportunities, welfare-benefits, immigration costs and other personal considerations determine for each individual whether to move or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ce, pooling together both the supply and demand effects may generate a biased estimation of the welfare effect, if not altogether mislead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parating both effects is possible by decomposing the immigration sample into two migration regimes: “free” and “policy-controlled”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B30A-C601-4B70-8267-505701E0C6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46:03Z</dcterms:created>
  <dc:creator>ediths</dc:creator>
  <dc:description/>
  <dc:language>en-US</dc:language>
  <cp:lastModifiedBy>alonc</cp:lastModifiedBy>
  <dcterms:modified xsi:type="dcterms:W3CDTF">2008-11-17T20:41:54Z</dcterms:modified>
  <cp:revision>594</cp:revision>
  <dc:subject/>
  <dc:title>Slide 1</dc:title>
</cp:coreProperties>
</file>